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48E-E7CD-4FD6-A2EE-90C7584E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42E-668D-4B0A-BB8A-DEAB2CA9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2C7-C155-41AC-8707-63EA0D3B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7AD-5735-497F-993D-71247229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45AA-1B84-42B1-920A-EBA20754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EE5E-43B8-4FFF-A25B-3C79406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048-6CDA-4F34-84C3-24DFB939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498-9480-4249-B0F9-1202561E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4C54-3640-4671-9A97-BF95585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0B2-F1CE-45AA-92F2-1FD4BF8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CBAC-5AB2-4E8B-8784-77E25FC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CFB-50FF-4848-9B1A-F111D13B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00D-361E-4FB4-87E1-123A3EE9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E52F-CF16-4A38-B6E7-9C21B10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7847-2EEE-46C1-ACEA-A3E1A4F9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8D06-9903-4C82-B69D-1CC93C26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D19-3224-4791-B5DF-08D05ACC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00E-F644-4B4E-BE1C-0545831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B19-8AB0-4CAF-8B4F-CB6D17F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A02-A7CE-461E-BA22-1940F4E5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BB7-95D6-4A51-8C56-5216AA6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D0E-6897-425F-801E-F64C49D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D97-075A-4D2A-8FB0-C4854D9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46F-D62C-4E66-A344-172CB7C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077C-F59F-405B-BEA1-779B47D494B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omic Sans MS"/>
              </a:rPr>
              <a:t>Click to edit the title text format</a:t>
            </a:r>
            <a:endParaRPr b="1" lang="en-US" sz="6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AE9D-D6AC-408C-BCA5-95F73EB6777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24816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omic Sans MS"/>
              </a:rPr>
              <a:t>Geologic Time</a:t>
            </a:r>
            <a:endParaRPr b="1" lang="en-US" sz="6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654720" y="2209680"/>
            <a:ext cx="26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Chapter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34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60958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Unconformit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n unconformity is a break in the rock record produced by erosion and/or nondeposition of rock lay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ketch of an unconformity: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6096240" cy="26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752480" y="3200400"/>
            <a:ext cx="6098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eological events of an unconformity: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971800" cy="13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2971800" cy="138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2971800" cy="124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23920" y="2743200"/>
            <a:ext cx="37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Sedimentation / deposi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d lithific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360" y="5410080"/>
            <a:ext cx="32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. Deformation / folding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nd eros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5800" y="2819520"/>
            <a:ext cx="41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. Subsidence, water is cov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334120"/>
            <a:ext cx="425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. More sedimentation happened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ce covered with wa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24280" y="4038480"/>
            <a:ext cx="297180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nconformity in rocks: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38188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446840" y="57913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ngular unconformity at Siccar Point, Scotlan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Dating rocks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609588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Relative dat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pare events and put them in order based on their sequence of formation, oldest to younges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bsolute dat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ing radioactive decay to determine the exact age of rock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The Geologic Time Scale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45360" y="6285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p. 18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" y="720720"/>
            <a:ext cx="8731080" cy="613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67120" y="12002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Cen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69280" y="24004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Mes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1800" y="4457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Paleozo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6600">
            <a:off x="-198360" y="34876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Precambri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" y="165744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66"/>
                </a:solidFill>
                <a:uFillTx/>
                <a:latin typeface="Times New Roman"/>
              </a:rPr>
              <a:t>Phanerozoic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680" y="588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Geologic Time Scale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057040"/>
            <a:ext cx="6095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eologists have divided the earth’s history into various eras, periods and epochs using fossil evidence (which life forms lived when)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e chart has been updated many times as more fossil evidence is located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w of superpositio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 an undisturbed sequence of sedimentary rocks the oldest rocks are on the bottom, youngest on top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4480" y="7621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Law of superposi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inciple of original horizontalit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ayers of sediment are generally deposited in a horizontal, flat-lying posi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ck layers that are flat have not been disturb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rinciple of cross-cutting relationship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Younger features cut across older feat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 fault or dike that cuts across sedimentary layers is younger than the laye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648320" cy="21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419720" y="44197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gneous dikes cutting across metamorphic roc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Arial"/>
              </a:rPr>
              <a:t>Principles of relative dating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cluded Fragments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n inclusion is a piece of rock that is enclosed within another rock (2 examples: xenolith and pebble in conglomerat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ck containing the inclusion is younger, the inclusion is old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22:01:23Z</dcterms:created>
  <dc:creator>Mian Liu</dc:creator>
  <dc:description/>
  <dc:language>en-US</dc:language>
  <cp:lastModifiedBy>Teena Della</cp:lastModifiedBy>
  <cp:lastPrinted>1999-08-23T22:27:22Z</cp:lastPrinted>
  <dcterms:modified xsi:type="dcterms:W3CDTF">2004-05-23T23:18:50Z</dcterms:modified>
  <cp:revision>67</cp:revision>
  <dc:subject/>
  <dc:title>Principles of Geology</dc:title>
</cp:coreProperties>
</file>